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82D5-2FE1-4DC7-A080-80A4F131EE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’s lesson is about let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xtension wor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ters (H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th December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: To write a reply to Stanley's let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task is to write a reply to Stanley's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ill need an add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New York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back at the letter you wrote to Stanley’s mum to remind you what you wro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o inclu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include what ever Stanley said in the letter and you decide if you believe him or n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CA02-90BA-4177-B34E-CF68F1D1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8965-02B2-47D5-949E-13D46DB5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CDCF-0C9B-4D52-9306-CF985559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6B34-A9EA-4D38-B0AF-9CC5E244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6301-1D2C-49F9-9900-FE322E4D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DC53-1D38-4FBB-A5BC-11CD9F1F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047-709D-4081-891D-7893C9FC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379D-1D4C-48F9-8ACE-F2ABEBF6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AEC4-20D5-4089-8061-A1888819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A802-7032-4EF5-ABE5-FFDC9E76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4E6-4363-4160-8E91-AD505DCD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89E2-E9E7-460C-9368-8EC6D732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752E-7516-436D-B909-DE4088A3FD2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Today’s lesson is about letters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(Extension work)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578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tters (Hole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800320" y="-360"/>
            <a:ext cx="33433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en-GB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December 200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28760" y="928800"/>
            <a:ext cx="8501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Obj: To write a reply to Stanley's lette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Your task is to write a reply to Stanley's letter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It will need an addres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[New York]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76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700" spc="-1" strike="noStrike">
                <a:solidFill>
                  <a:srgbClr val="000000"/>
                </a:solidFill>
                <a:latin typeface="Calibri"/>
              </a:rPr>
              <a:t>You can look back at the letter you wrote to Stanley’s mum to remind you what you wrote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to inclu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700" spc="-1" strike="noStrike">
                <a:solidFill>
                  <a:srgbClr val="000000"/>
                </a:solidFill>
                <a:latin typeface="Calibri"/>
              </a:rPr>
              <a:t>You must include what ever Stanley said in the letter and you decide if you believe him or not.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0:53:39Z</dcterms:created>
  <dc:creator>james</dc:creator>
  <dc:description/>
  <dc:language>en-US</dc:language>
  <cp:lastModifiedBy>RomaK</cp:lastModifiedBy>
  <dcterms:modified xsi:type="dcterms:W3CDTF">2015-09-04T10:36:00Z</dcterms:modified>
  <cp:revision>7</cp:revision>
  <dc:subject/>
  <dc:title>Today’s lesson is about letters</dc:title>
</cp:coreProperties>
</file>